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9478-4089-4F2F-AD8C-A8210892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02E8-323A-4C9E-AD4E-3A59C4FC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DEA1-56B8-44D4-B06E-1F05F53E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BE0E-43A2-436F-9046-2F7A82C5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5112-B389-4809-AB1E-AE8E63F8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B820-4E11-45E1-A28A-64CADD76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EE65-F363-4F38-BDE0-A17D5361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A917-BDB2-4A44-838D-E8A48D53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696A-75F8-4F4F-8170-BF4966C4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2C16-CF6A-4526-B6FA-32B45BB6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EAE4-2B89-452A-9EB5-7970FB9B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C781-5823-4627-8188-B66827A5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03B7-8B7D-49DC-8E5F-6CFFC72F3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51120" y="-360"/>
            <a:ext cx="9956880" cy="6836040"/>
            <a:chOff x="-51120" y="-360"/>
            <a:chExt cx="9956880" cy="6836040"/>
          </a:xfrm>
        </p:grpSpPr>
        <p:sp>
          <p:nvSpPr>
            <p:cNvPr id="42" name=""/>
            <p:cNvSpPr/>
            <p:nvPr/>
          </p:nvSpPr>
          <p:spPr>
            <a:xfrm>
              <a:off x="213480" y="652680"/>
              <a:ext cx="1012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dhé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51120" y="2286000"/>
              <a:ext cx="1283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oopé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745040" y="4884480"/>
              <a:ext cx="216072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84320" y="4884480"/>
              <a:ext cx="216072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64680" y="4884480"/>
              <a:ext cx="216072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425400" y="4884480"/>
              <a:ext cx="215856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745040" y="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745040" y="1627560"/>
              <a:ext cx="216072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84320" y="325692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745040" y="325692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25400" y="3256920"/>
              <a:ext cx="215856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25400" y="1627560"/>
              <a:ext cx="215856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25400" y="0"/>
              <a:ext cx="215856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84320" y="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84320" y="1627560"/>
              <a:ext cx="216072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64680" y="325692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64680" y="1627560"/>
              <a:ext cx="216072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64680" y="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264680" y="-360"/>
              <a:ext cx="8641080" cy="65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6200" y="3918600"/>
              <a:ext cx="817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ntérê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6960" y="5551200"/>
              <a:ext cx="974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assivit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2920" y="6530760"/>
              <a:ext cx="1248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oncili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9640" y="6530760"/>
              <a:ext cx="901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riti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87240" y="6530760"/>
              <a:ext cx="1163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Op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285040" y="6530760"/>
              <a:ext cx="943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Hostilit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1:10:45Z</dcterms:modified>
  <cp:revision>98</cp:revision>
  <dc:subject/>
  <dc:title>Présentation PowerPoint</dc:title>
</cp:coreProperties>
</file>